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12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AC4B-947E-4AC9-B02D-7679E4D170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lesson you should be abl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transmission of impulses from senses to central nervous system and back to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eflex action and the pathway of the reflex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function of reflex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role of the central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yn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kin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ic nerve cel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ain types of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receptors e.g pain receptors in skin to the CNS( brain or spinal  cor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sensory nerves to motor ner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s impulses from CNS to effector e.g. muscle to bring about movement or gland to bring about secretion of hormone e.g A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mission of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1B7-FEBF-4269-8797-E1EBA988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BD45-8E9F-4CD4-A9A1-AB9905A5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32E-22F5-4886-8B80-A7800652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53C-7375-4C83-B20D-419A59E1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2FE6-5971-47AF-B747-801B866D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9DC4-C0EA-4953-A39C-D8EB598B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0EB85-0102-4DD4-BD7A-984747B3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17FD-D675-4935-B6BD-D93D8B1C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F5BF-7311-4D92-A17D-1D8C07AC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8BD1-730E-4502-A339-DD9D2BEE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8461-E35E-4708-B10A-01F8BB9B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1B6-4312-4CCB-A122-6FF0073E1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0B79-1FF9-4053-B36F-96429A18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4A79-8287-4EDC-B4EE-1198B558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34B4-8276-45D7-82C4-42BB910A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A0C9-7699-46F8-AF99-8EE7C173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681C-B479-495B-A95E-5E9D20A8D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B6C9-F237-4272-96FF-932B9CA5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704A-1C71-411C-BBE3-C2951C85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562-8DC3-4B59-9BA4-1A3DB3A3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071-FF18-4B40-88FA-2FF86B21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F84-5FC0-43A7-AD04-E92324A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B46-6AF8-42F7-88A0-0674A251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5C8-4C3E-49DB-BB7A-E055A20B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A8F6-5DCF-4EF0-ADC3-9C75AF1B65A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5EAD-306F-4D45-9375-D400C365E4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Nervous System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827000"/>
            <a:ext cx="8381880" cy="47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By the end of the lesson you should be able 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transmission of impulses from senses to central nervous system and back to muscle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eflex action and the pathway of the reflex arc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function of reflex respons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omic Sans MS"/>
              </a:rPr>
              <a:t>Describe the role of the central nervous system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cc"/>
                </a:solidFill>
                <a:latin typeface="Arial"/>
              </a:rPr>
              <a:t>The Synapse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832360" cy="50626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8800" y="624852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328680" y="54864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arki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nervoussystematlas"/>
          <p:cNvPicPr/>
          <p:nvPr/>
        </p:nvPicPr>
        <p:blipFill>
          <a:blip r:embed="rId1"/>
          <a:stretch/>
        </p:blipFill>
        <p:spPr>
          <a:xfrm>
            <a:off x="2340000" y="0"/>
            <a:ext cx="4041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02760" y="5562720"/>
            <a:ext cx="187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Nervous System"/>
          <p:cNvPicPr/>
          <p:nvPr/>
        </p:nvPicPr>
        <p:blipFill>
          <a:blip r:embed="rId1"/>
          <a:stretch/>
        </p:blipFill>
        <p:spPr>
          <a:xfrm>
            <a:off x="2124000" y="549360"/>
            <a:ext cx="4532400" cy="5688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Basic nerve cell structure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3" descr="basicneuron"/>
          <p:cNvPicPr/>
          <p:nvPr/>
        </p:nvPicPr>
        <p:blipFill>
          <a:blip r:embed="rId1"/>
          <a:stretch/>
        </p:blipFill>
        <p:spPr>
          <a:xfrm>
            <a:off x="1763640" y="1484280"/>
            <a:ext cx="5832720" cy="3525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longn"/>
          <p:cNvPicPr/>
          <p:nvPr/>
        </p:nvPicPr>
        <p:blipFill>
          <a:blip r:embed="rId2"/>
          <a:stretch/>
        </p:blipFill>
        <p:spPr>
          <a:xfrm>
            <a:off x="1835280" y="5445000"/>
            <a:ext cx="5903640" cy="9288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3 main types of nerve cell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0" name="Picture 3" descr="Senseneuron"/>
          <p:cNvPicPr/>
          <p:nvPr/>
        </p:nvPicPr>
        <p:blipFill>
          <a:blip r:embed="rId1"/>
          <a:stretch/>
        </p:blipFill>
        <p:spPr>
          <a:xfrm>
            <a:off x="684360" y="1628640"/>
            <a:ext cx="2360520" cy="2808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neuron1"/>
          <p:cNvPicPr/>
          <p:nvPr/>
        </p:nvPicPr>
        <p:blipFill>
          <a:blip r:embed="rId2"/>
          <a:stretch/>
        </p:blipFill>
        <p:spPr>
          <a:xfrm>
            <a:off x="5796000" y="1628640"/>
            <a:ext cx="2790720" cy="2971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3203640" y="1700280"/>
          <a:ext cx="266544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700280"/>
                    <a:ext cx="2665440" cy="27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258920" y="486900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nsor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99564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y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804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tor neur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Sensory neurons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5076720" y="1989000"/>
            <a:ext cx="1656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2" descr="Scan10025"/>
          <p:cNvPicPr/>
          <p:nvPr/>
        </p:nvPicPr>
        <p:blipFill>
          <a:blip r:embed="rId1"/>
          <a:srcRect l="11818" t="47247" r="9800" b="37787"/>
          <a:stretch/>
        </p:blipFill>
        <p:spPr>
          <a:xfrm>
            <a:off x="304920" y="1752480"/>
            <a:ext cx="8305560" cy="3733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3"/>
          <p:cNvSpPr/>
          <p:nvPr/>
        </p:nvSpPr>
        <p:spPr>
          <a:xfrm>
            <a:off x="228600" y="548496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ries impulses from receptors e.g pain receptors in skin to the CNS( brain or spinal  cor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cc"/>
                </a:solidFill>
                <a:latin typeface="Comic Sans MS"/>
              </a:rPr>
              <a:t>Relay neuron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8" descr="Scan10026"/>
          <p:cNvPicPr/>
          <p:nvPr/>
        </p:nvPicPr>
        <p:blipFill>
          <a:blip r:embed="rId1"/>
          <a:srcRect l="23575" t="35840" r="24497" b="46341"/>
          <a:stretch/>
        </p:blipFill>
        <p:spPr>
          <a:xfrm>
            <a:off x="1219320" y="1905120"/>
            <a:ext cx="7467480" cy="3504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228600" y="525780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sensory nerves to motor nerv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cc"/>
                </a:solidFill>
                <a:latin typeface="Comic Sans MS"/>
              </a:rPr>
              <a:t>Motor neuron</a:t>
            </a:r>
            <a:endParaRPr b="0" lang="en-US" sz="4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0" name="Picture 13" descr="Scan10027"/>
          <p:cNvPicPr/>
          <p:nvPr/>
        </p:nvPicPr>
        <p:blipFill>
          <a:blip r:embed="rId1"/>
          <a:srcRect l="11818" t="29424" r="9800" b="49904"/>
          <a:stretch/>
        </p:blipFill>
        <p:spPr>
          <a:xfrm>
            <a:off x="838080" y="1828800"/>
            <a:ext cx="7696440" cy="4038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4"/>
          <p:cNvSpPr/>
          <p:nvPr/>
        </p:nvSpPr>
        <p:spPr>
          <a:xfrm>
            <a:off x="0" y="5303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arries impulses from CNS to effector e.g. muscle to bring about movement or gland to bring about secretion of hormone e.g AD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cc"/>
                </a:solidFill>
                <a:latin typeface="Arial"/>
              </a:rPr>
              <a:t>Transmission of signa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4" name="Picture 4" descr="synapse"/>
          <p:cNvPicPr/>
          <p:nvPr/>
        </p:nvPicPr>
        <p:blipFill>
          <a:blip r:embed="rId1"/>
          <a:stretch/>
        </p:blipFill>
        <p:spPr>
          <a:xfrm>
            <a:off x="4572000" y="1700280"/>
            <a:ext cx="3959280" cy="3375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synapse"/>
          <p:cNvPicPr/>
          <p:nvPr/>
        </p:nvPicPr>
        <p:blipFill>
          <a:blip r:embed="rId2"/>
          <a:stretch/>
        </p:blipFill>
        <p:spPr>
          <a:xfrm>
            <a:off x="1442880" y="1984320"/>
            <a:ext cx="3392640" cy="268452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>Nervous system</dc:description>
  <cp:keywords>Nervous system</cp:keywords>
  <dc:language>en-US</dc:language>
  <cp:lastModifiedBy>LEGION2</cp:lastModifiedBy>
  <dcterms:modified xsi:type="dcterms:W3CDTF">2016-01-14T10:40:52Z</dcterms:modified>
  <cp:revision>8</cp:revision>
  <dc:subject>Nervous system</dc:subject>
  <dc:title>Nervou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